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19A-E4C7-4144-8547-2E162594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088-57A6-4770-AC1F-8A51FC7B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F3A-2C7B-4CB0-9DA3-DD936958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E20-31EB-488F-AF2D-ECF3705A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43B-B2F7-4858-B03B-EC47B7B7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751-EF5F-44A1-AA49-5A7FE37D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8A2-2262-46C4-BB7B-B90D2656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E8C-EA08-49FB-8FAB-CBE10E5C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C1B-7077-4DA8-802F-4679ECBF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DBF-CA46-4616-8B00-49065FDD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E59-2BB1-4AAA-A6D0-9FDE07BC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4C72-94DF-41C7-A7FA-24F0E78F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eaeae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6CEA-C7B6-45D4-91D8-5F67F2A0D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hiller"/>
              </a:rPr>
              <a:t>Gorilla vs. Alligato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0d0d"/>
                </a:solidFill>
                <a:latin typeface="Chiller"/>
              </a:rPr>
              <a:t>A sad sto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>
            <a:off x="6400800" y="2998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>
            <a:off x="914400" y="3808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:\Documents and Settings\jjohnson\Local Settings\Temporary Internet Files\Content.IE5\64TZQHQH\MCj03121220000[1].wmf"/>
          <p:cNvPicPr/>
          <p:nvPr/>
        </p:nvPicPr>
        <p:blipFill>
          <a:blip r:embed="rId3"/>
          <a:stretch/>
        </p:blipFill>
        <p:spPr>
          <a:xfrm>
            <a:off x="4267080" y="0"/>
            <a:ext cx="822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le 1"/>
          <p:cNvSpPr/>
          <p:nvPr/>
        </p:nvSpPr>
        <p:spPr>
          <a:xfrm>
            <a:off x="2133720" y="8380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One day they did not know what to pl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Blackoak Std"/>
              </a:rPr>
              <a:t>?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736200" y="5105520"/>
            <a:ext cx="844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A man said “football!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Documents and Settings\jjohnson\Local Settings\Temporary Internet Files\Content.IE5\W6W5RWIA\MCj01988200000[1].wmf"/>
          <p:cNvPicPr/>
          <p:nvPr/>
        </p:nvPicPr>
        <p:blipFill>
          <a:blip r:embed="rId1"/>
          <a:stretch/>
        </p:blipFill>
        <p:spPr>
          <a:xfrm rot="2320800">
            <a:off x="3368520" y="2097000"/>
            <a:ext cx="21402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le 1"/>
          <p:cNvSpPr/>
          <p:nvPr/>
        </p:nvSpPr>
        <p:spPr>
          <a:xfrm>
            <a:off x="2514600" y="304812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They said how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C:\Documents and Settings\jjohnson\Local Settings\Temporary Internet Files\Content.IE5\W6W5RWIA\MCED00105_0000[1].wmf"/>
          <p:cNvPicPr/>
          <p:nvPr/>
        </p:nvPicPr>
        <p:blipFill>
          <a:blip r:embed="rId1"/>
          <a:stretch/>
        </p:blipFill>
        <p:spPr>
          <a:xfrm>
            <a:off x="2819520" y="1523880"/>
            <a:ext cx="3047760" cy="2749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1027440" y="4952880"/>
            <a:ext cx="79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The man taught th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itle 1"/>
          <p:cNvSpPr/>
          <p:nvPr/>
        </p:nvSpPr>
        <p:spPr>
          <a:xfrm>
            <a:off x="2590920" y="12952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So they playe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>
            <a:off x="5867280" y="31240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>
            <a:off x="1447920" y="33526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jjohnson\Local Settings\Temporary Internet Files\Content.IE5\FMIT817P\MCj02998950000[1].wmf"/>
          <p:cNvPicPr/>
          <p:nvPr/>
        </p:nvPicPr>
        <p:blipFill>
          <a:blip r:embed="rId3"/>
          <a:stretch/>
        </p:blipFill>
        <p:spPr>
          <a:xfrm rot="18156000">
            <a:off x="5736960" y="3595320"/>
            <a:ext cx="1827360" cy="97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Documents and Settings\jjohnson\Local Settings\Temporary Internet Files\Content.IE5\FMIT817P\MCj02998950000[1].wmf"/>
          <p:cNvPicPr/>
          <p:nvPr/>
        </p:nvPicPr>
        <p:blipFill>
          <a:blip r:embed="rId4"/>
          <a:stretch/>
        </p:blipFill>
        <p:spPr>
          <a:xfrm rot="1181400">
            <a:off x="1938240" y="3556080"/>
            <a:ext cx="1827360" cy="96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Documents and Settings\jjohnson\Local Settings\Temporary Internet Files\Content.IE5\W6W5RWIA\MCj01988200000[1].wmf"/>
          <p:cNvPicPr/>
          <p:nvPr/>
        </p:nvPicPr>
        <p:blipFill>
          <a:blip r:embed="rId5"/>
          <a:stretch/>
        </p:blipFill>
        <p:spPr>
          <a:xfrm rot="2320800">
            <a:off x="3546000" y="4319280"/>
            <a:ext cx="997200" cy="9684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1067040" y="5562720"/>
            <a:ext cx="67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It was almost ov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tle 1"/>
          <p:cNvSpPr/>
          <p:nvPr/>
        </p:nvSpPr>
        <p:spPr>
          <a:xfrm>
            <a:off x="2438280" y="990720"/>
            <a:ext cx="40388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The Gorilla was ahead by 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Documents and Settings\jjohnson\Local Settings\Temporary Internet Files\Content.IE5\FMIT817P\MCj04347260000[1].png"/>
          <p:cNvPicPr/>
          <p:nvPr/>
        </p:nvPicPr>
        <p:blipFill>
          <a:blip r:embed="rId1"/>
          <a:stretch/>
        </p:blipFill>
        <p:spPr>
          <a:xfrm>
            <a:off x="3048120" y="31240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 flipH="1">
            <a:off x="2971440" y="2209680"/>
            <a:ext cx="3505320" cy="2617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jjohnson\Local Settings\Temporary Internet Files\Content.IE5\FMIT817P\MCj04244520000[1].wmf"/>
          <p:cNvPicPr/>
          <p:nvPr/>
        </p:nvPicPr>
        <p:blipFill>
          <a:blip r:embed="rId2"/>
          <a:stretch/>
        </p:blipFill>
        <p:spPr>
          <a:xfrm>
            <a:off x="2362320" y="1752480"/>
            <a:ext cx="2409840" cy="1162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549000" y="5181480"/>
            <a:ext cx="812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the alligator was ma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le 1"/>
          <p:cNvSpPr/>
          <p:nvPr/>
        </p:nvSpPr>
        <p:spPr>
          <a:xfrm>
            <a:off x="2057400" y="91440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The alligator bit the gori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>
            <a:off x="914400" y="3352680"/>
            <a:ext cx="2971800" cy="2219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jjohnson\Local Settings\Temporary Internet Files\Content.IE5\30GCO75N\MCHM00047_0000[1].wmf"/>
          <p:cNvPicPr/>
          <p:nvPr/>
        </p:nvPicPr>
        <p:blipFill>
          <a:blip r:embed="rId2"/>
          <a:stretch/>
        </p:blipFill>
        <p:spPr>
          <a:xfrm>
            <a:off x="3505320" y="3429000"/>
            <a:ext cx="923760" cy="592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jjohnson\Local Settings\Temporary Internet Files\Content.IE5\64TZQHQH\MCj04260200000[1].wmf"/>
          <p:cNvPicPr/>
          <p:nvPr/>
        </p:nvPicPr>
        <p:blipFill>
          <a:blip r:embed="rId3"/>
          <a:stretch/>
        </p:blipFill>
        <p:spPr>
          <a:xfrm flipH="1">
            <a:off x="4419720" y="2286000"/>
            <a:ext cx="24825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965520" y="4114800"/>
            <a:ext cx="746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They started to fig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loud 2"/>
          <p:cNvSpPr/>
          <p:nvPr/>
        </p:nvSpPr>
        <p:spPr>
          <a:xfrm>
            <a:off x="3276720" y="1905120"/>
            <a:ext cx="2743200" cy="2057400"/>
          </a:xfrm>
          <a:prstGeom prst="pi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xplosion 1 3"/>
          <p:cNvSpPr/>
          <p:nvPr/>
        </p:nvSpPr>
        <p:spPr>
          <a:xfrm>
            <a:off x="3276720" y="2057400"/>
            <a:ext cx="609480" cy="762120"/>
          </a:xfrm>
          <a:prstGeom prst="irregularSeal1">
            <a:avLst/>
          </a:prstGeom>
          <a:solidFill>
            <a:srgbClr val="c9da9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xplosion 2 4"/>
          <p:cNvSpPr/>
          <p:nvPr/>
        </p:nvSpPr>
        <p:spPr>
          <a:xfrm rot="3101400">
            <a:off x="4924440" y="3203280"/>
            <a:ext cx="838080" cy="914400"/>
          </a:xfrm>
          <a:prstGeom prst="irregularSeal2">
            <a:avLst/>
          </a:prstGeom>
          <a:solidFill>
            <a:srgbClr val="c9da9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y fought for a lo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Finally the man said ST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C:\Documents and Settings\jjohnson\Local Settings\Temporary Internet Files\Content.IE5\Y39XOFVM\MCj04242320000[1].wmf"/>
          <p:cNvPicPr/>
          <p:nvPr/>
        </p:nvPicPr>
        <p:blipFill>
          <a:blip r:embed="rId1"/>
          <a:stretch/>
        </p:blipFill>
        <p:spPr>
          <a:xfrm>
            <a:off x="762120" y="1600200"/>
            <a:ext cx="2178000" cy="217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:\Documents and Settings\jjohnson\Local Settings\Temporary Internet Files\Content.IE5\Y39XOFVM\MCj04402090000[1].wmf"/>
          <p:cNvPicPr/>
          <p:nvPr/>
        </p:nvPicPr>
        <p:blipFill>
          <a:blip r:embed="rId2"/>
          <a:stretch/>
        </p:blipFill>
        <p:spPr>
          <a:xfrm>
            <a:off x="3809880" y="5051520"/>
            <a:ext cx="1349640" cy="1806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Documents and Settings\jjohnson\Local Settings\Temporary Internet Files\Content.IE5\GRBJJYRJ\MCj04298170000[1].wmf"/>
          <p:cNvPicPr/>
          <p:nvPr/>
        </p:nvPicPr>
        <p:blipFill>
          <a:blip r:embed="rId3"/>
          <a:stretch/>
        </p:blipFill>
        <p:spPr>
          <a:xfrm>
            <a:off x="3657600" y="4724280"/>
            <a:ext cx="14590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1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There was a gorill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3962520" y="5257800"/>
            <a:ext cx="5181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 flipH="1">
            <a:off x="685800" y="2438280"/>
            <a:ext cx="30160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le 1"/>
          <p:cNvSpPr/>
          <p:nvPr/>
        </p:nvSpPr>
        <p:spPr>
          <a:xfrm>
            <a:off x="2514600" y="281952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y stopped and forgave each 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tle 1"/>
          <p:cNvSpPr/>
          <p:nvPr/>
        </p:nvSpPr>
        <p:spPr>
          <a:xfrm>
            <a:off x="2133720" y="1905120"/>
            <a:ext cx="51051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hiller"/>
              </a:rPr>
              <a:t>The End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C:\Documents and Settings\jjohnson\Local Settings\Temporary Internet Files\Content.IE5\813X96AR\MCj04352720000[1].wmf"/>
          <p:cNvPicPr/>
          <p:nvPr/>
        </p:nvPicPr>
        <p:blipFill>
          <a:blip r:embed="rId1"/>
          <a:stretch/>
        </p:blipFill>
        <p:spPr>
          <a:xfrm>
            <a:off x="1447920" y="3505320"/>
            <a:ext cx="2419200" cy="297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jjohnson\Local Settings\Temporary Internet Files\Content.IE5\ZMJOU54V\MCj04059720000[1].wmf"/>
          <p:cNvPicPr/>
          <p:nvPr/>
        </p:nvPicPr>
        <p:blipFill>
          <a:blip r:embed="rId2"/>
          <a:stretch/>
        </p:blipFill>
        <p:spPr>
          <a:xfrm flipH="1">
            <a:off x="5333760" y="4114800"/>
            <a:ext cx="2390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 flipH="1">
            <a:off x="1752480" y="1828800"/>
            <a:ext cx="3432240" cy="2563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038480" y="4876920"/>
            <a:ext cx="281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There was a alliga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533520"/>
            <a:ext cx="419112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hiller"/>
              </a:rPr>
              <a:t>They me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4952880" y="5684760"/>
            <a:ext cx="41911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>
            <a:off x="555480" y="2057400"/>
            <a:ext cx="3330720" cy="248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jjohnson\Local Settings\Temporary Internet Files\Content.IE5\64TZQHQH\MCj04260200000[1].wmf"/>
          <p:cNvPicPr/>
          <p:nvPr/>
        </p:nvPicPr>
        <p:blipFill>
          <a:blip r:embed="rId2"/>
          <a:stretch/>
        </p:blipFill>
        <p:spPr>
          <a:xfrm>
            <a:off x="4251240" y="1828800"/>
            <a:ext cx="25750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122840" y="5410080"/>
            <a:ext cx="789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They wanted to pl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>
            <a:off x="838080" y="2209680"/>
            <a:ext cx="3127320" cy="233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jjohnson\Local Settings\Temporary Internet Files\Content.IE5\64TZQHQH\MCj04260200000[1].wmf"/>
          <p:cNvPicPr/>
          <p:nvPr/>
        </p:nvPicPr>
        <p:blipFill>
          <a:blip r:embed="rId2"/>
          <a:stretch/>
        </p:blipFill>
        <p:spPr>
          <a:xfrm>
            <a:off x="5243400" y="2057400"/>
            <a:ext cx="2497320" cy="2422440"/>
          </a:xfrm>
          <a:prstGeom prst="rect">
            <a:avLst/>
          </a:prstGeom>
          <a:ln w="0">
            <a:noFill/>
          </a:ln>
        </p:spPr>
      </p:pic>
      <p:sp>
        <p:nvSpPr>
          <p:cNvPr id="60" name="Oval 5"/>
          <p:cNvSpPr/>
          <p:nvPr/>
        </p:nvSpPr>
        <p:spPr>
          <a:xfrm>
            <a:off x="3048120" y="2895480"/>
            <a:ext cx="685800" cy="6858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09320" y="304920"/>
            <a:ext cx="4038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They played socc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jjohnson\Local Settings\Temporary Internet Files\Content.IE5\CX58QCPV\MCj04370490000[1].png"/>
          <p:cNvPicPr/>
          <p:nvPr/>
        </p:nvPicPr>
        <p:blipFill>
          <a:blip r:embed="rId1"/>
          <a:stretch/>
        </p:blipFill>
        <p:spPr>
          <a:xfrm rot="2329200">
            <a:off x="3949200" y="3416040"/>
            <a:ext cx="1443240" cy="1442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 flipH="1">
            <a:off x="4495680" y="2133720"/>
            <a:ext cx="3330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438280" y="457200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They played baseb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>
            <a:off x="4191120" y="1828800"/>
            <a:ext cx="2496960" cy="2422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jjohnson\Local Settings\Temporary Internet Files\Content.IE5\CX58QCPV\MCj04370740000[1].png"/>
          <p:cNvPicPr/>
          <p:nvPr/>
        </p:nvPicPr>
        <p:blipFill>
          <a:blip r:embed="rId2"/>
          <a:stretch/>
        </p:blipFill>
        <p:spPr>
          <a:xfrm flipH="1" rot="17550600">
            <a:off x="3634920" y="3483000"/>
            <a:ext cx="135108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5640" y="380880"/>
            <a:ext cx="39625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They played Basketbal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5105520" y="571500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 rot="20865600">
            <a:off x="-221760" y="3928680"/>
            <a:ext cx="346860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jjohnson\Local Settings\Temporary Internet Files\Content.IE5\CX58QCPV\MCj04370410000[1].png"/>
          <p:cNvPicPr/>
          <p:nvPr/>
        </p:nvPicPr>
        <p:blipFill>
          <a:blip r:embed="rId2"/>
          <a:stretch/>
        </p:blipFill>
        <p:spPr>
          <a:xfrm>
            <a:off x="3352680" y="312408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C:\Documents and Settings\jjohnson\Local Settings\Temporary Internet Files\Content.IE5\VBN50SX8\MCj02997590000[1].wmf"/>
          <p:cNvPicPr/>
          <p:nvPr/>
        </p:nvPicPr>
        <p:blipFill>
          <a:blip r:embed="rId3"/>
          <a:stretch/>
        </p:blipFill>
        <p:spPr>
          <a:xfrm>
            <a:off x="6629400" y="1523880"/>
            <a:ext cx="1523880" cy="1420920"/>
          </a:xfrm>
          <a:prstGeom prst="rect">
            <a:avLst/>
          </a:prstGeom>
          <a:ln w="0">
            <a:noFill/>
          </a:ln>
        </p:spPr>
      </p:pic>
      <p:sp>
        <p:nvSpPr>
          <p:cNvPr id="74" name="Minus 8"/>
          <p:cNvSpPr/>
          <p:nvPr/>
        </p:nvSpPr>
        <p:spPr>
          <a:xfrm>
            <a:off x="8077320" y="-2286000"/>
            <a:ext cx="228600" cy="1013472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C:\Documents and Settings\jjohnson\Local Settings\Temporary Internet Files\Content.IE5\BWJA6VH8\MCj02997890000[1].wmf"/>
          <p:cNvPicPr/>
          <p:nvPr/>
        </p:nvPicPr>
        <p:blipFill>
          <a:blip r:embed="rId1"/>
          <a:stretch/>
        </p:blipFill>
        <p:spPr>
          <a:xfrm rot="2456400">
            <a:off x="3174480" y="3102120"/>
            <a:ext cx="2754360" cy="230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jjohnson\Local Settings\Temporary Internet Files\Content.IE5\64TZQHQH\MCj04260200000[1].wmf"/>
          <p:cNvPicPr/>
          <p:nvPr/>
        </p:nvPicPr>
        <p:blipFill>
          <a:blip r:embed="rId2"/>
          <a:stretch/>
        </p:blipFill>
        <p:spPr>
          <a:xfrm rot="876000">
            <a:off x="2953800" y="1595520"/>
            <a:ext cx="2711520" cy="2630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2028960" y="5334120"/>
            <a:ext cx="597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They also ski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6:57:23Z</dcterms:created>
  <dc:creator>itsuser</dc:creator>
  <dc:description/>
  <dc:language>en-US</dc:language>
  <cp:lastModifiedBy>itsuser</cp:lastModifiedBy>
  <dcterms:modified xsi:type="dcterms:W3CDTF">2009-05-05T17:20:57Z</dcterms:modified>
  <cp:revision>14</cp:revision>
  <dc:subject/>
  <dc:title>Gorilla vs. Alligator</dc:title>
</cp:coreProperties>
</file>